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E9D-A57A-49AF-8BF2-437A686C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F65-4C69-4CB7-9D39-35D135EA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B8F-B496-4697-B8BA-DE68C89A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289-B817-4E2E-B186-A913FF2F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651-9EFB-4ECE-BA5A-B14C5A3D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6F5-FC77-4A45-9D7C-715F1755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E2D-5416-429B-B41F-B3B14BD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15F-AFA4-427F-BD89-8B4E94E5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E0E-E749-4F87-850F-30737A82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530-37B1-4936-935C-9FCB158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1BD-5A74-4F7A-83A7-8852DF5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389-F5FB-417C-AE57-C4FD7252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A7F-EA2C-4A07-B746-3FE2F7467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Learning Target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895480"/>
            <a:ext cx="7848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add and subtract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m or differenc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a – 3b) – (2a + 6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– 9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– 9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CorShape1"/>
          <p:cNvSpPr/>
          <p:nvPr/>
        </p:nvSpPr>
        <p:spPr>
          <a:xfrm rot="10800000">
            <a:off x="161640" y="214920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dd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y - 7x + 15a) + (-3y + 8x - 8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your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y - 3y - 7x + 8x + 15a - 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6y + x + 7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your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ab + 4ab -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a</a:t>
            </a:r>
            <a:r>
              <a:rPr b="1" lang="en-US" sz="44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7ab + 5b</a:t>
            </a:r>
            <a:r>
              <a:rPr b="1" lang="en-US" sz="44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Add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3ab -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+ (4ab + 6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18288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9810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8288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9810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8288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8288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 the polynomials.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914400"/>
            <a:ext cx="1143000" cy="1066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600200"/>
            <a:ext cx="30456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257480"/>
            <a:ext cx="1143000" cy="30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914400"/>
            <a:ext cx="11430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07160" y="952560"/>
            <a:ext cx="1460520" cy="952560"/>
          </a:xfrm>
          <a:prstGeom prst="rect">
            <a:avLst/>
          </a:prstGeom>
          <a:solidFill>
            <a:srgbClr val="ff921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91440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952560"/>
            <a:ext cx="11430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257480"/>
            <a:ext cx="1600200" cy="30456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95256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56204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1600200"/>
            <a:ext cx="30456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128736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128736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+ 7y + xy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y + 2x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+ 7y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1xy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rShape1"/>
          <p:cNvSpPr/>
          <p:nvPr/>
        </p:nvSpPr>
        <p:spPr>
          <a:xfrm rot="10800000">
            <a:off x="223560" y="25048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560" y="2590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 up your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 xy  + 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3xy + 5y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dd the following polynomials using column for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+ (-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xy + 2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5146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5909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25909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25146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259092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666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5909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666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18284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Rewrite subtraction as adding the oppo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9y - 7x + 15a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8x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8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th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y + 3y - 7x - 8x + 15a + 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2y - 15x + 23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Subtract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y - 7x + 15a) - (-3y + 8x - 8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8862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38862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8862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396252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8862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9625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Rewrite subtraction as adding the oppo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7a - 10b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4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th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- 3a - 10b - 4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a - 14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ubtract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a - 10b) - (3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9625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9625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2514600"/>
            <a:ext cx="90676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 up your like terms and add the oppo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xy 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----------------------------------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 - xy  +  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Subtract the following polynomials using column for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- (-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xy + 2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m or differenc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a – 3b) + (2a + 6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rShape1"/>
          <p:cNvSpPr/>
          <p:nvPr/>
        </p:nvSpPr>
        <p:spPr>
          <a:xfrm rot="10800000">
            <a:off x="161640" y="361296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– 9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–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SCSCHOOLS</cp:lastModifiedBy>
  <dcterms:modified xsi:type="dcterms:W3CDTF">2011-02-23T20:59:44Z</dcterms:modified>
  <cp:revision>12</cp:revision>
  <dc:subject/>
  <dc:title>Add and Subtract Polynomials</dc:title>
</cp:coreProperties>
</file>